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46B-B948-4DDF-B39C-25D60183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060-5891-487C-8C5A-80A02426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A0B-3F22-4A0E-BD64-2E8D0529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964-AE29-4E97-87EA-5A7C9F89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4BDC-1C33-4E97-85DD-DEF3683E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8FB-2BC7-4ED6-BE87-BBB447E8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1EAC-F36B-4791-8419-FE93116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71A-8517-48FA-B1EE-B61E9B6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700B-34AA-4BA0-A8CC-4971829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DC2C-2159-40CD-AC4F-328BA7E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A368-DB9F-45ED-856D-E63BE0E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307-F376-4922-9536-31556384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DCF2-6CD3-41F6-85A8-5CDD0F8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9053-2B39-4BAA-907A-FED16A5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E0E1-4478-4237-AE51-CC11A6E1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5B9-8A38-4D27-8E6E-91D78ED0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9E8D-5F79-4535-8D02-8DADA226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8DBF-2BE8-4BCA-ACEC-BEED6856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704F-D5D0-4781-8956-0FFB8B2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4148-889B-4EDB-A9FD-752A4B4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B47E-F553-486A-812B-DEB417D7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2929-EB1E-4470-BE6C-B80F075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199-9F05-4B25-928B-00A9EB1E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2434-CFD1-46C6-9A00-6E3394B6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C76E-9B56-4431-97D8-63A9C9F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DA8A-01E4-4A14-9A17-321F40E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4979-0A87-47E0-A294-0FD979B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CF36-D0D4-45B0-9946-0D6F3B4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9C48-DC2B-4834-A83A-A7750701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0654-644E-4BCC-800B-099BD979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71A2-DCD0-4DF3-AF71-D2FA650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FE43-CA47-48B0-A0D3-396D3EE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A111-4A67-40E8-A145-3B766D7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E6F-AA01-4F73-B5AD-131B1B2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2BED-2E18-44C0-A2FF-C1CAF81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3551-2895-4A7E-8021-4672839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2EDC-6EB1-4406-845D-8E0E37F5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C115-7A4A-424B-A7EC-C9A76CD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272A-3635-47A7-A72E-0D85547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A360-0BC6-4F84-A5F9-37F7EC4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AAFA-24E2-4C92-8B46-D41B78C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4A51-003C-48D1-9C70-1371763C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5082-1647-47E3-99FB-A2CF78DA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2AD4-5A56-404A-AF83-0E9A78F1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813-A927-4C6F-BB44-CCF3455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37FF-A121-48F8-BF85-33DE448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1DB3-C6BE-4ECB-BB1A-01BFD00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764D-EC29-4CD3-A3EE-A6A6A506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CCB0-4240-44DF-9431-86250BF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B7B9-89C2-48FF-8E02-B5B18009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33693-4472-42FA-B637-45EB952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98B0-D6EB-4471-BD44-D97A86C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C905-BA14-4B67-8DD7-ADDA377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9B7C-511C-4BDE-AEE7-EED761C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B124-5D3D-46B2-98B8-955BB47F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648-71A0-4FA5-BE70-9C5E96F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3D01-A1F0-4386-B6C9-315745DB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EDD-08AC-4938-9983-C31CA41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E85-CD9E-4FE0-A4EC-9000492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F48-5DEF-45DC-946C-14CDF72F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B1E-361C-4003-BB76-A5BDA6C6961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4DD-D12A-4FAB-BD0E-E60F9302BC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CA38-980C-4187-9740-58EF0924CD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F8D-FA24-48D2-9D4B-3F4B231D48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595-742A-4C14-B43F-78D73C34498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licious.com/" TargetMode="External"/><Relationship Id="rId2" Type="http://schemas.openxmlformats.org/officeDocument/2006/relationships/hyperlink" Target="http://www.diigo.com/" TargetMode="External"/><Relationship Id="rId3" Type="http://schemas.openxmlformats.org/officeDocument/2006/relationships/hyperlink" Target="http://www.ebizmba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Social Bookmarking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Beth Sha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Jennifer Stosh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Wilkes Emerging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ts the top database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ety of information to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information – very overwhel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related?  Mayb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bjectiv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e you to three of the major Social Bookmarking sit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icious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www.delicious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igo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diigo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izMBA (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ebizmba.com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liciou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all of your websites at one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with friends and colleag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cribe to other book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subject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g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F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information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’m not sure I would have use for this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iig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nounced “Dee-Go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collaborative tool in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collaborate with other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light text 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almost any 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and easy to fi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G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BizMB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eBusiness Knowledge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you to find answers on the Web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42:48Z</dcterms:created>
  <dc:creator>Jeff Shaffer</dc:creator>
  <dc:description/>
  <dc:language>en-US</dc:language>
  <cp:lastModifiedBy>Jeff Shaffer</cp:lastModifiedBy>
  <dcterms:modified xsi:type="dcterms:W3CDTF">2009-10-26T14:51:37Z</dcterms:modified>
  <cp:revision>3</cp:revision>
  <dc:subject/>
  <dc:title>Social Bookmarking</dc:title>
</cp:coreProperties>
</file>